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C99-D96B-42FD-A42A-4774B1D9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42B-0A4F-45B7-86D7-DF0876C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921-072E-4330-A21B-9C71C4D6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459-2B85-4AD8-916B-0FC92ECE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7D2-FADB-44B2-8518-2BEC954F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22E-F273-42CA-8B7A-60486170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3D9-DB30-44A3-BC58-46A66D0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BFD-53F0-426C-ABAF-C85E34A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46C-7651-4958-8905-7900D1D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001-74B2-4D14-8657-B0EDAE5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FB9-E69C-4120-9EF2-34075C8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DAE-D08B-4BCD-AAA9-00856097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cc00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E892-ECAB-43AD-A59F-2C60A14B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cc00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838080"/>
            <a:ext cx="6476760" cy="319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9900ff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Jello</a:t>
            </a:r>
            <a:endParaRPr b="0" lang="en-US" sz="1800" spc="1" strike="noStrike">
              <a:ln w="255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9900ff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39272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Kathe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October 7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Harrington"/>
              </a:rPr>
              <a:t>Computer #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Jell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eveloped fruit-flavored versions of Cooper’s gelatin and his wife devised the name “Jell-O” for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old his business to Francis Woodward in 1897 who in the 1900 began advertising heav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06 Jell-O sales  nearly $1million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3, Woodward’s Genesee Pure Food company was renamed Jell-O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ventually combined with Postum Cereal to become the General Foods Corpo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3333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Co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Cooper is credited with the invention of one of the most uniquely American desserts of all time, “Jell-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 was an engineer and a philanthropist, active in politics and community affairs, known for a variety of inventions and accomplish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d no formal training but as a young man he worked with his father and mastered a variety of skills in masonry, hat- making and machin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 died in New York on April 4,1883, at the age of 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volved in the 1858 project that resulted in installing the first transatlantic cable tele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3333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ooper"/>
          <p:cNvPicPr/>
          <p:nvPr/>
        </p:nvPicPr>
        <p:blipFill>
          <a:blip r:embed="rId1"/>
          <a:srcRect l="0" t="0" r="2131" b="-6435"/>
          <a:stretch/>
        </p:blipFill>
        <p:spPr>
          <a:xfrm>
            <a:off x="1600200" y="0"/>
            <a:ext cx="556272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ooper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426708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ell-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ept 29, 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60199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V Star Ton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4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0Z</dcterms:created>
  <dc:creator>install</dc:creator>
  <dc:description/>
  <dc:language>en-US</dc:language>
  <cp:lastModifiedBy>install</cp:lastModifiedBy>
  <dcterms:modified xsi:type="dcterms:W3CDTF">2010-10-13T17:50:51Z</dcterms:modified>
  <cp:revision>21</cp:revision>
  <dc:subject/>
  <dc:title>Slide 1</dc:title>
</cp:coreProperties>
</file>